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D9EF-FD32-4E6E-9BC9-B9BB05C5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7CB-B0B8-402F-AD8E-9CF19453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644D-8C36-4A00-B285-B08FBB46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106-D56E-4EA8-9ACA-AB6C6BB7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07B6-6CC9-4967-8334-146B36AA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A3E9-2D6D-413C-A19E-4EE24741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92F8-32E1-4EB7-90D8-655AED15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D503-357F-4F43-92A4-5B8E4577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434D-40DD-4991-B768-21CF3491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88B5-ECD0-445C-9330-5FA0E93C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DCBC-F6FF-4E66-B778-7ADE4012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DB3C-7D30-42E7-8041-20CFF817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73C4-E810-4C59-A671-37C8F2CE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3474-1BEF-4894-A15D-9E0CA040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9B39-EE6D-49E6-BB31-AC6AB187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9CF6-FD76-44DF-8896-F46B5134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07C2-9483-428A-AF4B-D23FC7F0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19E3-61F8-4684-986B-AABDABEC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501-A8A4-4747-85A2-5672B8A8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954-EE39-4924-85C4-0A2B09F2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C76C-B1B8-4071-AE7F-1E1A4C44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D056-8D43-4A2B-81B6-6C3CA213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0DD-0C8E-4714-984D-0389F04A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A34-A363-4894-8D08-F509BE4F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C133-C655-4F31-933D-7DD8E1EF84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0B4A-835A-4E45-8817-09ABCF2102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50292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Times New Roman"/>
              </a:rPr>
              <a:t>BALIN LARSON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-304920" y="2133720"/>
            <a:ext cx="5486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nior 20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173480" y="152280"/>
            <a:ext cx="42847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otogra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33412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hos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81080" y="1874880"/>
            <a:ext cx="52578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by Pi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ree Choice #1: Hand Colo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7400" y="1809720"/>
            <a:ext cx="5257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ree Choice #1: Hand Colo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35000" y="1828800"/>
            <a:ext cx="50752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ner Portrai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6320" y="1828800"/>
            <a:ext cx="3367080" cy="4154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ner Portrai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02920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inting with Ligh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52640" y="1905120"/>
            <a:ext cx="3138480" cy="3962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316368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8:48:29Z</dcterms:created>
  <dc:creator>bal_balarson</dc:creator>
  <dc:description/>
  <dc:language>en-US</dc:language>
  <cp:lastModifiedBy>bal_balarson</cp:lastModifiedBy>
  <dcterms:modified xsi:type="dcterms:W3CDTF">2009-05-21T18:22:37Z</dcterms:modified>
  <cp:revision>8</cp:revision>
  <dc:subject/>
  <dc:title>Slide 1</dc:title>
</cp:coreProperties>
</file>